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DB1-ED7B-4728-8F86-63DF17BC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BBB-5066-40E5-A442-F1B01340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E86-2328-4C83-94A7-BC919BB8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0AC-F61E-4E80-BBA7-EBEB6B5A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E7E9-4A26-4119-893E-DBA18F5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C6A4-CA84-4931-B844-099807D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2C4-6E9B-422C-B239-9132AD6A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BEC-C1AC-40D6-9161-29D892DB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51C1-8CFC-4450-9C10-1FB440D0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ACBC-6B24-487D-9EEE-9440E154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B0B5-5DE8-4BD0-8470-A35360CF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ED0-6C62-4562-B09C-AEEFCBE8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45D7-ABAB-4661-A331-97849D4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B591-3746-405F-9DD9-D59F2C4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4F25-3718-4491-8109-D078F2A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CFD6-43F2-440C-8ED4-1932E145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24F4-A685-47FC-AE08-4A4D5ABC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333-7730-4DC0-BC4A-B96564D0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7F5-219C-446A-95B7-1B177A40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005-1CF3-429C-A623-92A83ED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E59-278A-4F75-BF29-A68BF0E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C87-181C-4A30-8184-2023664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022-BFCB-4623-A592-1852ACF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E13-AC68-4EAA-90C0-37BCD7FE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9772-A928-4AF4-8746-7DB4DE700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198-EA32-4583-9F29-7A52F1870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b7"/>
                </a:solidFill>
                <a:uFillTx/>
                <a:latin typeface="Arial Black"/>
              </a:rPr>
              <a:t>The Heimlich Maneuver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Victor Castill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abdominal thrusts until the object is coughed 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Always remember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expulsion of the object, keep the victim still and get medical hel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Important Notic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censed physician should be consulted for diagnosis and treatment of all medical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Introduct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s never a warning before a person gets an object caught in their throat and starts ch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unately, there are effective techniques to deal with this emerg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Lack of Oxyg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earning the Heimlich Maneuver-a simple life-saving technique-you may literally save the life of a choking vict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Heimlich Maneuver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67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lifts the diaphragm and forces enough air from the lungs to remove the obstru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When Do I Use The Heimlich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grabbing the throat with the hand (the universal sign for cho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otice they are ga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ear a weak ineffective cough, noisy breathing, or high-pitched s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starting to look blu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41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How To Do The Heimlich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behind the choking person and wrap your arm around his or her wais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thumb side of the fist against middle of person’s abdomen just above the navel and well below the rib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your fist into the person’s abdomen with quick, upward thrust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50:54Z</dcterms:created>
  <dc:creator>762923</dc:creator>
  <dc:description/>
  <dc:language>en-US</dc:language>
  <cp:lastModifiedBy>762923</cp:lastModifiedBy>
  <dcterms:modified xsi:type="dcterms:W3CDTF">2008-10-31T15:36:05Z</dcterms:modified>
  <cp:revision>4</cp:revision>
  <dc:subject/>
  <dc:title>The Heimlich Maneuver </dc:title>
</cp:coreProperties>
</file>